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FA5-0EAB-4404-8558-7343BEFE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42A-0717-4A32-8F04-AAE8FA5F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28A-0797-4C3A-BDF2-101C62F3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0DB-8E1B-4665-84EF-E0D60801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462-566E-485A-8E01-02BF6632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51D-3CC1-4745-9435-04A90D27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6FF-A533-418D-B2D1-D3F56109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E2E-6466-429A-9D65-49BE5334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B3E-B7CF-47E1-91B9-8EEB0E12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079-65D4-444D-8378-BBFF04CB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6AD-7E54-4954-9C5A-DD95AB6C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121C-EA35-42AA-8D95-80EF2758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A324-C974-4077-83F0-DA44BC15BF9D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roups.google.com/group/robot-android-group-japan-akb" TargetMode="External"/><Relationship Id="rId2" Type="http://schemas.openxmlformats.org/officeDocument/2006/relationships/hyperlink" Target="https://sites.google.com/site/akbrobot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280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コミックマーケット８４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2013/8/12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3500280"/>
            <a:ext cx="5616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ロボット部  清水 素釘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日本アンドロイドの会　秋葉原支部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4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19700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9999"/>
                </a:solidFill>
                <a:latin typeface="Arial"/>
              </a:rPr>
              <a:t>「ハードウェア」と「ソフトウェア」のワークショ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013360"/>
            <a:ext cx="792144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メーリングリスト：　　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roups.google.com/group/robot-android-group-japan-akb</a:t>
            </a:r>
            <a:br>
              <a:rPr sz="1400"/>
            </a:b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イト：　　　　　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sites.google.com/site/akbrobo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052720"/>
            <a:ext cx="5473440" cy="123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9999"/>
                </a:solidFill>
                <a:latin typeface="Arial"/>
              </a:rPr>
              <a:t>「光の流れ」 　テキ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43640" y="2205000"/>
            <a:ext cx="2185920" cy="271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BY"/>
          <p:cNvPicPr/>
          <p:nvPr/>
        </p:nvPicPr>
        <p:blipFill>
          <a:blip r:embed="rId4"/>
          <a:stretch/>
        </p:blipFill>
        <p:spPr>
          <a:xfrm>
            <a:off x="1403280" y="5950080"/>
            <a:ext cx="838440" cy="29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11280" y="5942160"/>
            <a:ext cx="309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C) 2013  AKBROB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9FD-A7D8-4B64-A3C7-1DF15A7B96B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「光の流れ」ワークショ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1268280"/>
            <a:ext cx="597708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目的：　「ハードウェア」と「ソフトウェア」に触れ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概要：　光の流れをつくる　（電圧は５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対象：　小学生以上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コース時間：　１時間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コース方式：　個別指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716280"/>
            <a:ext cx="5977080" cy="245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（１）コース説明　１０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（２）ハードウェア工作　１０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（３）デモ１（１つ点滅）　５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（４）デモ２（光の流れ）　１０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（５）問題（流れを逆にするなど）　１５分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（６）まとめ、質問　５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1341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378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時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3A7-43E8-4C7C-A144-9443C75A7C0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全体のつなが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4829040"/>
            <a:ext cx="259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ソフトウェアを作成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ソフトウェアを電子基板に送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電気を供給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482904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・ソフトウェアを保存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・ソフトウェアを実行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00720" y="3246480"/>
            <a:ext cx="2521080" cy="151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59640" y="4902120"/>
            <a:ext cx="216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光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光の流れをつく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205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パソコ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21654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電子基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4200" y="2165400"/>
            <a:ext cx="338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発光ダイオー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3789360"/>
            <a:ext cx="511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4000" y="2852640"/>
            <a:ext cx="1736640" cy="1676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492360" y="3141720"/>
            <a:ext cx="2232000" cy="1149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50920" y="3933720"/>
            <a:ext cx="12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92B-E854-4829-ADD7-8EC1B4156A9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912000" cy="5184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ハードウェア工作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04000" y="189000"/>
            <a:ext cx="2087640" cy="1727280"/>
          </a:xfrm>
          <a:prstGeom prst="wedgeRoundRectCallout">
            <a:avLst>
              <a:gd name="adj1" fmla="val -41407"/>
              <a:gd name="adj2" fmla="val 2490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ぎに写真を参考にして、部品を取付てください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189000"/>
            <a:ext cx="2158920" cy="1727280"/>
          </a:xfrm>
          <a:prstGeom prst="wedgeRoundRectCallout">
            <a:avLst>
              <a:gd name="adj1" fmla="val -11472"/>
              <a:gd name="adj2" fmla="val 422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初に先生が部品（抵抗、発光ダイオード、電線）を取付ます。よく見てい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6000" y="4869000"/>
            <a:ext cx="2124000" cy="1728720"/>
          </a:xfrm>
          <a:prstGeom prst="wedgeRoundRectCallout">
            <a:avLst>
              <a:gd name="adj1" fmla="val 21824"/>
              <a:gd name="adj2" fmla="val -92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光る。（光らないときは、挿す向きを反対にする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01336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発光ダイオ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197000"/>
            <a:ext cx="1871640" cy="1368360"/>
          </a:xfrm>
          <a:prstGeom prst="wedgeRoundRectCallout">
            <a:avLst>
              <a:gd name="adj1" fmla="val 160347"/>
              <a:gd name="adj2" fmla="val 577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電気を流れにくく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134136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抵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4869000"/>
            <a:ext cx="1511280" cy="1296720"/>
          </a:xfrm>
          <a:prstGeom prst="wedgeRoundRectCallout">
            <a:avLst>
              <a:gd name="adj1" fmla="val 77203"/>
              <a:gd name="adj2" fmla="val -1450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電気を通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5013360"/>
            <a:ext cx="115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電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1989000"/>
            <a:ext cx="1871640" cy="1656000"/>
          </a:xfrm>
          <a:prstGeom prst="wedgeRoundRectCallout">
            <a:avLst>
              <a:gd name="adj1" fmla="val -65689"/>
              <a:gd name="adj2" fmla="val 3820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ソフトウェアで指定した、電気を出力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4360" y="2133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ピ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59640" y="4724280"/>
            <a:ext cx="2233440" cy="1441440"/>
          </a:xfrm>
          <a:prstGeom prst="wedgeRoundRectCallout">
            <a:avLst>
              <a:gd name="adj1" fmla="val -8847"/>
              <a:gd name="adj2" fmla="val -1094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ソフトウェアを保存して、実行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4869000"/>
            <a:ext cx="143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電子基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4AA-BF32-4E78-8C80-B48C58B9710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5991120" cy="4210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「デモ１」　１つ点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158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ソフトウェア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2349360"/>
            <a:ext cx="2735280" cy="2160720"/>
          </a:xfrm>
          <a:prstGeom prst="wedgeRoundRectCallout">
            <a:avLst>
              <a:gd name="adj1" fmla="val -89699"/>
              <a:gd name="adj2" fmla="val -540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ソフトウェア実行ボタ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ソフトウェアをパソコンから電子基板に送り、電子基板上で実行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9F5-904D-445A-A7A0-555B77A95E4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6334200" cy="5857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55440"/>
            <a:ext cx="8640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「デモ２」 光の流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発光ダイオード５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947880"/>
            <a:ext cx="158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ソフトウェア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1628640"/>
            <a:ext cx="3095640" cy="1224000"/>
          </a:xfrm>
          <a:prstGeom prst="wedgeRoundRectCallout">
            <a:avLst>
              <a:gd name="adj1" fmla="val -71587"/>
              <a:gd name="adj2" fmla="val 253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時間を「１００」から「３０」に変更すると流れが速くな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2F7-9D1C-426B-9E31-58E2A231785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88720"/>
            <a:ext cx="844560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問題に挑戦しよ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84360" y="1413000"/>
            <a:ext cx="511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１）光の流れを逆方向に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２）光の流れを折り返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３）発光ダイオードを１つ増や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４）その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題をとくアイデア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7BC-0A68-4086-AC53-37A054F76A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もっと遊びた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2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１．本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duin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はじめよう 第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版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Make:PROJECTS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￥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,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入手先：アマゾ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ttp://www.amazon.co.jp/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秋葉原　若松通商など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 http://www.wakamatsu-net.com/biz/ &gt;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２．ハードウェア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（つぎのいづれか）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１）本テキストで使用した電子基板、部品　　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KBON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」　価格は問い合わせくださ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入手先：ロボット部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ttp://groups.google.com/group/robot-android-group-japan-a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２）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duin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はじめようキット 　 ￥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,98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入手先：アマゾン、秋葉原　若松通商な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３．ソフトウェア開発ソフト　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本テキストで使用したソフト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Arduino IDE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無料　　開発環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ArduBlock 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無料　　ビジュアルプログラミング環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ダウンロードやインストール方法は、ロボット部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「プロジェク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KBON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」　などを参考にしてくださ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http://sourceforge.jp/projects/akbone&gt;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5959440"/>
            <a:ext cx="6193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　　　　参加ありがとう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227640" y="3429000"/>
            <a:ext cx="2521080" cy="2449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236000" y="981000"/>
            <a:ext cx="1066680" cy="1254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308720" y="234936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500720" y="4581360"/>
            <a:ext cx="1726920" cy="121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89E-EF0D-4089-B604-A3691BA67651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09:01:29Z</dcterms:created>
  <dc:creator>ts</dc:creator>
  <dc:description/>
  <dc:language>en-US</dc:language>
  <cp:lastModifiedBy>ts</cp:lastModifiedBy>
  <dcterms:modified xsi:type="dcterms:W3CDTF">2013-08-08T11:08:56Z</dcterms:modified>
  <cp:revision>110</cp:revision>
  <dc:subject/>
  <dc:title>ドロイド君ロボット構想 </dc:title>
</cp:coreProperties>
</file>